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43a1b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21A7A-83A9-42E2-8C29-CF982C3A4D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3B8D0-FD08-40C0-9775-20480CAC5F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CD73F-2BDB-4B59-8AE0-195B5BC4AF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EE1E7-D329-45BA-BECC-096783A100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6011A-076F-4238-9F35-06117ED11E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CF094-4103-4137-AD77-83ABE182C6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280C7-3290-4B77-87B3-7615543AFA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053EE-3F3D-430C-9E4E-54E808673F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A7221-C45E-4B15-8EC1-5DBA5A816B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A9FDD-6B0F-4D84-9494-C727DD55A4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4E3E6-8D51-4257-AF73-C68D26883D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AD58F-D6AD-4231-B53D-60C1982432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8AA14-F5DD-445B-BB32-118FD5BAA0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FE245-7EA0-4418-8FC0-F05268736C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A760F-5DD0-417E-9089-D85D6D369A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79F48-B695-4045-8727-F29D76DAD7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FECBB-7694-48C0-9F9F-65D5168D7A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36D1-89E2-4E15-9722-5626BFEAF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A2BF-397D-45CC-8D9F-99D9FE2C7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54A8-D587-4E61-8AE5-F011D9D5C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0B5D-8456-4E72-88A5-599A36E8A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F314B-6036-408F-AC9E-79649FAFC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E5E3F-5FCB-4F79-9908-4ED3D5784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F24AC-BF5A-48FE-ACB7-ECC1AC720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B4703-2F68-4281-B87D-1374A99A8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60E4A-603B-495B-BE38-7685A7CF2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FADE7-0E20-40B1-B492-692AC9D81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91418-3DE9-4AA3-9ABA-719B4B7DC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C0DA-AF81-4D25-8926-D5817C226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F8C09-4170-4D54-AE4A-D6178CBA0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8A2F1-EF23-474D-985E-C0AB64C9C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B8FE4-45C0-4564-991C-708AD4927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42B5A-0EFA-4F3C-9939-F89FB6046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CE939-E092-4607-9730-9ED803557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1868-C4DA-4B34-A85D-EFCCE0CAB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C0BE-845E-4768-92BC-3E10AAF23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A65E-381B-42CD-806F-EBD46D662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7599-CB64-4A60-BC1A-E489821D9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F973-9896-48D5-ACD5-A519698D2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99A8-645C-42DC-884A-20BDC3341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572C-1B5F-468E-8B60-38C0C2216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2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43a1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43a1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43a1b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43a1b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43a1b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7A334-3FDA-4F4B-9F8E-393CB901D0E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43a1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43a1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43a1b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43a1b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43a1b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2279A-2E8A-4E41-9200-118F14C5CFE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43a1b"/>
                </a:solidFill>
                <a:latin typeface="Arial"/>
              </a:rPr>
              <a:t>The Texas Revolution</a:t>
            </a: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 notes on the following slid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ext in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blu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he most important for you to kn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43a1b"/>
                </a:solidFill>
                <a:latin typeface="Arial"/>
              </a:rPr>
              <a:t>The Alamo </a:t>
            </a: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he first battle between the Texans and Mexicans took place at on old mission that was used as a for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t was called the Alam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6" descr="001 alamo 1"/>
          <p:cNvPicPr/>
          <p:nvPr/>
        </p:nvPicPr>
        <p:blipFill>
          <a:blip r:embed="rId1"/>
          <a:stretch/>
        </p:blipFill>
        <p:spPr>
          <a:xfrm>
            <a:off x="4267080" y="2209680"/>
            <a:ext cx="4454640" cy="33591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6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3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0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7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43a1b"/>
                </a:solidFill>
                <a:latin typeface="Arial"/>
              </a:rPr>
              <a:t>The Fight for the Alamo </a:t>
            </a: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were only 183 Texans guarding the Alam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exican army had 1,800 m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exans held the Alamo for twelve day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he thirteenth day, Santa Anna ordered his men to storm the fortr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When it was over, all but five Texans were dead. The men not killed in the battle were executed by Santa An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exans were shocked by the slaughter at the Alamo and vowed to fight for their freedom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5" descr="alamo"/>
          <p:cNvPicPr/>
          <p:nvPr/>
        </p:nvPicPr>
        <p:blipFill>
          <a:blip r:embed="rId1"/>
          <a:stretch/>
        </p:blipFill>
        <p:spPr>
          <a:xfrm>
            <a:off x="304920" y="228600"/>
            <a:ext cx="8381880" cy="62848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3" descr="alamo"/>
          <p:cNvPicPr/>
          <p:nvPr/>
        </p:nvPicPr>
        <p:blipFill>
          <a:blip r:embed="rId1"/>
          <a:stretch/>
        </p:blipFill>
        <p:spPr>
          <a:xfrm>
            <a:off x="0" y="838080"/>
            <a:ext cx="9144000" cy="49942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8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43a1b"/>
                </a:solidFill>
                <a:latin typeface="Arial"/>
              </a:rPr>
              <a:t>Battle at San Jacinto </a:t>
            </a: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nta Anna had over 300 more Texans executed at Golida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exan general, Sam Hous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athered more troops, 800 in a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ncluded Tejanos, American settlers, volunteers from the United States, and many free and enslaved African America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met Santa Anna at San Jaci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heir battle cry was,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“Remember the Alamo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was over in 18 minutes.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More than half the Mexican army was kill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Santa Anna was forced to sign a treaty giving Texas its freedom. With the Battle of San Jacinto,Texas was now an independent count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1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4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4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1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4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4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4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4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1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4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4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1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4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4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1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5" dur="4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4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1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4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4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1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4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4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3" descr="santa-ana-houston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43a1b"/>
                </a:solidFill>
                <a:latin typeface="Arial"/>
              </a:rPr>
              <a:t>General Santa Anna surrenders to General Houston</a:t>
            </a: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3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43a1b"/>
                </a:solidFill>
                <a:latin typeface="Arial"/>
              </a:rPr>
              <a:t>Lone Star Republic</a:t>
            </a: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4572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In 1836, Texas declared itself The Lone Star Republi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Sam Houston was elected presid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Some Americans wanted Texas to be part of the U.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Some people were afraid of Texas becoming a slave state, others of war with Mexic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Both would eventually happe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5" descr="republic-texas-flag"/>
          <p:cNvPicPr/>
          <p:nvPr/>
        </p:nvPicPr>
        <p:blipFill>
          <a:blip r:embed="rId1"/>
          <a:stretch/>
        </p:blipFill>
        <p:spPr>
          <a:xfrm>
            <a:off x="5486400" y="304920"/>
            <a:ext cx="3276720" cy="19494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SamHouston"/>
          <p:cNvPicPr/>
          <p:nvPr/>
        </p:nvPicPr>
        <p:blipFill>
          <a:blip r:embed="rId2"/>
          <a:stretch/>
        </p:blipFill>
        <p:spPr>
          <a:xfrm>
            <a:off x="5638680" y="2514600"/>
            <a:ext cx="2664000" cy="37893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5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0" dur="2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5" dur="2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0" dur="2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5" dur="20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0" dur="20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5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43a1b"/>
                </a:solidFill>
                <a:latin typeface="Arial"/>
              </a:rPr>
              <a:t>Spanish Texas</a:t>
            </a: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-36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panish had been in the Americas since Columbus in 149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pain owned a large part of North America, including Tex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na17th1"/>
          <p:cNvPicPr/>
          <p:nvPr/>
        </p:nvPicPr>
        <p:blipFill>
          <a:blip r:embed="rId1"/>
          <a:stretch/>
        </p:blipFill>
        <p:spPr>
          <a:xfrm>
            <a:off x="3809880" y="1676520"/>
            <a:ext cx="5029200" cy="49226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2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43a1b"/>
                </a:solidFill>
                <a:latin typeface="Arial"/>
              </a:rPr>
              <a:t>Tejanos</a:t>
            </a: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1821, only about 4,000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ejanos lived in Texas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janos are people of Spanish heritage who consider Texas their h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e Spanish government tried to attract Spanish setters to Texas, but very few c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43a1b"/>
                </a:solidFill>
                <a:latin typeface="Arial"/>
              </a:rPr>
              <a:t>Moses Austin</a:t>
            </a: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4956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American,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Moses Austin was given permission by the Spanish government to start a colony in Tex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ll the Americans had to do was follow Spanish law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es died in 1821, so his son Stephen tried to start the colon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mosesaustin"/>
          <p:cNvPicPr/>
          <p:nvPr/>
        </p:nvPicPr>
        <p:blipFill>
          <a:blip r:embed="rId1"/>
          <a:stretch/>
        </p:blipFill>
        <p:spPr>
          <a:xfrm>
            <a:off x="5334120" y="1905120"/>
            <a:ext cx="3168360" cy="41148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In 1821, Mexico won independence from Spain</a:t>
            </a: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pic>
        <p:nvPicPr>
          <p:cNvPr id="102" name="Picture 1028" descr="spain"/>
          <p:cNvPicPr/>
          <p:nvPr/>
        </p:nvPicPr>
        <p:blipFill>
          <a:blip r:embed="rId1"/>
          <a:stretch/>
        </p:blipFill>
        <p:spPr>
          <a:xfrm>
            <a:off x="304920" y="1523880"/>
            <a:ext cx="8458200" cy="50342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43a1b"/>
                </a:solidFill>
                <a:latin typeface="Arial"/>
              </a:rPr>
              <a:t>Mexican Independence Changes Texas </a:t>
            </a: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44197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exican government told Stephen Austin his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settlers would have to become Mexican citizens and members of the Roman Catholic Church, and learn Spanis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ween 1821 and 1827, Austin attracted 297 families to his new settle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sfaustin"/>
          <p:cNvPicPr/>
          <p:nvPr/>
        </p:nvPicPr>
        <p:blipFill>
          <a:blip r:embed="rId1"/>
          <a:stretch/>
        </p:blipFill>
        <p:spPr>
          <a:xfrm>
            <a:off x="4821120" y="1981080"/>
            <a:ext cx="3454560" cy="35719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uccess of Austin’s colony attracted more land speculators and settlers to Texas from the United States. Some were looking for a new life, some were escaping from the law, and others were looking for a chance to grow rich. By 1830, the population had swelled to about 30,000,with Americans outnumbering the Tejanos six to o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77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1" dur="77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3" dur="77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5" dur="77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43a1b"/>
                </a:solidFill>
                <a:latin typeface="Arial"/>
              </a:rPr>
              <a:t>Rising Tensions in Texas</a:t>
            </a: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In 1829, the Mexican government outlawed slave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e settlers wanted to keep their slaves so they could grow cott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e Americans also didn’t want to learn Spanish or follow Mexican law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Very few settlers had converted to Catholicis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228240" y="1371240"/>
            <a:ext cx="83818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n 1829, the Mexican government closed the state to further American immig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exans had to start paying taxes for the first tim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Mexican president, General Antonio Lopez de Santa Anna sent more Mexican troops to Tex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exans began talk of breaking away from Mexi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When Stephen Austin was jailed, the Texans did revol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anta Anna led 6,000 troops to Texas to put down the revol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0T21:26:26Z</dcterms:created>
  <dc:creator>Jeff Kash</dc:creator>
  <dc:description/>
  <dc:language>en-US</dc:language>
  <cp:lastModifiedBy>Owner</cp:lastModifiedBy>
  <cp:lastPrinted>2007-02-15T00:15:57Z</cp:lastPrinted>
  <dcterms:modified xsi:type="dcterms:W3CDTF">2012-12-08T16:11:19Z</dcterms:modified>
  <cp:revision>31</cp:revision>
  <dc:subject/>
  <dc:title>PowerPoint Presentation  -  The Texas Revolution</dc:title>
</cp:coreProperties>
</file>